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216-99F7-43AE-B680-69A389C9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D93-45BE-4332-BA2B-0DB83E14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F0F-13CE-4E4F-BD2F-34D3114D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900-70D4-462A-83B4-1DF38B5A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6B5-0ED6-449E-88E3-2CEFC60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8DF-D1D5-4573-8D2A-905B5F55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9A2-0E82-4299-B271-8BD5CB35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A64-C331-469B-A173-C52CA510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BF9-9E2B-4771-B554-7B37FE2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F2E-E972-4DE0-BB45-4B6F889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426-8885-4587-8696-45C83878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075-00A0-4CF5-9202-59B038A9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0017-14BA-4F61-B878-DA902B5B6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anca05.mp3" descr=""/>
          <p:cNvPicPr/>
          <p:nvPr/>
        </p:nvPicPr>
        <p:blipFill>
          <a:blip r:embed="rId1"/>
          <a:stretch/>
        </p:blipFill>
        <p:spPr>
          <a:xfrm>
            <a:off x="845964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User\ПРОЕКТ ДАЙ НАМ\фотки уменьшенные\DSC_0427.JPG"/>
          <p:cNvPicPr/>
          <p:nvPr/>
        </p:nvPicPr>
        <p:blipFill>
          <a:blip r:embed="rId2"/>
          <a:stretch/>
        </p:blipFill>
        <p:spPr>
          <a:xfrm>
            <a:off x="92160" y="189000"/>
            <a:ext cx="8928000" cy="6480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bat"/>
              </a:rPr>
              <a:t>ПАРК «ДАЙ НАМ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79280" y="18900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альная школа при Генеральном консульстве РФ в г. Хошим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ы: Седдики Закари, Точинский Даниил (3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: Точинская Юлия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User\ПРОЕКТ ДАЙ НАМ\фотки уменьшенные\DSC_1695.JPG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6134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Все животные содержатся в просторных чистых вольера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Носорогов мы застали за обедо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User\ПРОЕКТ ДАЙ НАМ\фотки уменьшенные\DSC_1712.JPG"/>
          <p:cNvPicPr/>
          <p:nvPr/>
        </p:nvPicPr>
        <p:blipFill>
          <a:blip r:embed="rId1"/>
          <a:stretch/>
        </p:blipFill>
        <p:spPr>
          <a:xfrm>
            <a:off x="0" y="698400"/>
            <a:ext cx="9144000" cy="6194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bat"/>
              </a:rPr>
              <a:t>В этом зоопарке внимательно заботятся о животных. Слоны чувствуют себя здесь, как до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Users\User\ПРОЕКТ ДАЙ НАМ\фотки уменьшенные\DSC_1720.JPG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619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User\ПРОЕКТ ДАЙ НАМ\фотки уменьшенные\DSC_1728.JPG"/>
          <p:cNvPicPr/>
          <p:nvPr/>
        </p:nvPicPr>
        <p:blipFill>
          <a:blip r:embed="rId2"/>
          <a:stretch/>
        </p:blipFill>
        <p:spPr>
          <a:xfrm>
            <a:off x="0" y="662040"/>
            <a:ext cx="9144000" cy="61959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Мы смогли понаблюдать за одной из самых больших пресноводных рыб мира – Арапаимой! Эта гигантская хищница может дышать атмосферным воздухом, как и м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9000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User\ПРОЕКТ ДАЙ НАМ\фотки уменьшенные\DSC_1703.JPG"/>
          <p:cNvPicPr/>
          <p:nvPr/>
        </p:nvPicPr>
        <p:blipFill>
          <a:blip r:embed="rId1"/>
          <a:stretch/>
        </p:blipFill>
        <p:spPr>
          <a:xfrm>
            <a:off x="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bat"/>
                <a:ea typeface="Arial"/>
              </a:rPr>
              <a:t>В зоопарке содержатся редкие белые тиг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0" y="544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bat"/>
              </a:rPr>
              <a:t>И обычные рыжи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bat"/>
              </a:rPr>
              <a:t>Вернее, не совсем обы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User\ПРОЕКТ ДАЙ НАМ\фотки уменьшенные\DSC_1708.JPG"/>
          <p:cNvPicPr/>
          <p:nvPr/>
        </p:nvPicPr>
        <p:blipFill>
          <a:blip r:embed="rId1"/>
          <a:stretch/>
        </p:blipFill>
        <p:spPr>
          <a:xfrm>
            <a:off x="-14400" y="692280"/>
            <a:ext cx="9159840" cy="6207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bat"/>
              </a:rPr>
              <a:t>Здесь мы</a:t>
            </a:r>
            <a:r>
              <a:rPr b="0" lang="en-US" sz="3200" spc="-1" strike="noStrike">
                <a:solidFill>
                  <a:srgbClr val="000000"/>
                </a:solidFill>
                <a:latin typeface="Arba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bat"/>
              </a:rPr>
              <a:t>узнали удивительную историю о тигре, которого воспитали собаки. Теперь он живёт с ними в одном волье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User\ПРОЕКТ ДАЙ НАМ\фотки уменьшенные\DSC_1770.JPG"/>
          <p:cNvPicPr/>
          <p:nvPr/>
        </p:nvPicPr>
        <p:blipFill>
          <a:blip r:embed="rId1"/>
          <a:stretch/>
        </p:blipFill>
        <p:spPr>
          <a:xfrm>
            <a:off x="0" y="692280"/>
            <a:ext cx="9159840" cy="6207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bat"/>
              </a:rPr>
              <a:t>От общения с жирафами мы получили огромное удовольствие! Впервые мы видели их так близк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bat"/>
              </a:rPr>
              <a:t>А ещё в зоопарке Дай Нам можно покормить животных!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C:\Users\User\ПРОЕКТ ДАЙ НАМ\фотки уменьшенные\IMG_06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User\ПРОЕКТ ДАЙ НАМ\фотки уменьшенные\DSC_1751.JPG"/>
          <p:cNvPicPr/>
          <p:nvPr/>
        </p:nvPicPr>
        <p:blipFill>
          <a:blip r:embed="rId2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User\ПРОЕКТ ДАЙ НАМ\фотки уменьшенные\DSC_1754.JPG"/>
          <p:cNvPicPr/>
          <p:nvPr/>
        </p:nvPicPr>
        <p:blipFill>
          <a:blip r:embed="rId3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User\ПРОЕКТ ДАЙ НАМ\фотки уменьшенные\DSC_1777.JPG"/>
          <p:cNvPicPr/>
          <p:nvPr/>
        </p:nvPicPr>
        <p:blipFill>
          <a:blip r:embed="rId1"/>
          <a:stretch/>
        </p:blipFill>
        <p:spPr>
          <a:xfrm>
            <a:off x="-14400" y="692280"/>
            <a:ext cx="9172800" cy="6216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bat"/>
              </a:rPr>
              <a:t>Это отличное место для развлечений, отдыха и близкого общения с природо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bat"/>
              </a:rPr>
              <a:t>Нам очень понравилось в парке Дай Нам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0" y="2781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bat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ПРОЕКТ ДАЙ НАМ\фотки уменьшенные\DSC_0478.JPG"/>
          <p:cNvPicPr/>
          <p:nvPr/>
        </p:nvPicPr>
        <p:blipFill>
          <a:blip r:embed="rId1"/>
          <a:stretch/>
        </p:blipFill>
        <p:spPr>
          <a:xfrm>
            <a:off x="209520" y="907920"/>
            <a:ext cx="8667720" cy="5872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12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bat"/>
              </a:rPr>
              <a:t>Здравствуйт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68360" y="1484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bat"/>
              </a:rPr>
              <a:t>Вас приветствуют ученики начальной школы при ГК РФ в г. Хошим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ПРОЕКТ ДАЙ НАМ\фотки уменьшенные\DSC_03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bat"/>
              </a:rPr>
              <a:t>Парк Дай Нам – одно из самых красивых и интересных мест для отдыха и развлечений жителей Хошимина и его окрестнос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7138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bat"/>
              </a:rPr>
              <a:t>Название парка «</a:t>
            </a:r>
            <a:r>
              <a:rPr b="0" lang="en-US" sz="3200" spc="-1" strike="noStrike">
                <a:solidFill>
                  <a:srgbClr val="ffff00"/>
                </a:solidFill>
                <a:latin typeface="Arbat"/>
              </a:rPr>
              <a:t>Dai Nam</a:t>
            </a:r>
            <a:r>
              <a:rPr b="0" lang="ru-RU" sz="3200" spc="-1" strike="noStrike">
                <a:solidFill>
                  <a:srgbClr val="ffff00"/>
                </a:solidFill>
                <a:latin typeface="Arbat"/>
              </a:rPr>
              <a:t>»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bat"/>
              </a:rPr>
              <a:t>переводится как </a:t>
            </a:r>
            <a:r>
              <a:rPr b="0" lang="en-US" sz="3200" spc="-1" strike="noStrike">
                <a:solidFill>
                  <a:srgbClr val="ffff00"/>
                </a:solidFill>
                <a:latin typeface="Arbat"/>
              </a:rPr>
              <a:t>“</a:t>
            </a:r>
            <a:r>
              <a:rPr b="0" lang="ru-RU" sz="3200" spc="-1" strike="noStrike">
                <a:solidFill>
                  <a:srgbClr val="ffff00"/>
                </a:solidFill>
                <a:latin typeface="Arbat"/>
              </a:rPr>
              <a:t>Большой Вьетнам</a:t>
            </a:r>
            <a:r>
              <a:rPr b="0" lang="en-US" sz="3200" spc="-1" strike="noStrike">
                <a:solidFill>
                  <a:srgbClr val="ffff00"/>
                </a:solidFill>
                <a:latin typeface="Arbat"/>
              </a:rPr>
              <a:t>”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bat"/>
              </a:rPr>
              <a:t>Строительство парка началось почти 10 лет назад в 40 км от Хошимина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24000" y="4292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bat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bat"/>
              </a:rPr>
              <a:t>Вся его территория занимает площадь 450 гектар, на которых расположен храмовый комплекс, зоопарк, парк развлечений, аквапарк, гостиница и многое друго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ПРОЕКТ ДАЙ НАМ\фотки уменьшенные\DSC_0401.JPG"/>
          <p:cNvPicPr/>
          <p:nvPr/>
        </p:nvPicPr>
        <p:blipFill>
          <a:blip r:embed="rId1"/>
          <a:stretch/>
        </p:blipFill>
        <p:spPr>
          <a:xfrm>
            <a:off x="2984400" y="2349360"/>
            <a:ext cx="6159600" cy="4508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0" y="189000"/>
            <a:ext cx="53640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bat"/>
              </a:rPr>
              <a:t>Храм Четырёх Благодарностей</a:t>
            </a:r>
            <a:r>
              <a:rPr b="0" lang="ru-RU" sz="2800" spc="-1" strike="noStrike">
                <a:solidFill>
                  <a:srgbClr val="0070c0"/>
                </a:solidFill>
                <a:latin typeface="Arbat"/>
              </a:rPr>
              <a:t> – одно из самых важных строений в парке Дай Н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381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bat"/>
              </a:rPr>
              <a:t>Основная религия Вьетнама- Буддизм. Также люди здесь молятся духам предков и священным животны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bat"/>
              </a:rPr>
              <a:t>Именно поэтому      в храме     находятся не  только статуи Будды, но и           Хо Ши Мина, королей     Вьетнама и мифических животны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1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ПРОЕКТ ДАЙ НАМ\фотки уменьшенные\DSC_0379.JPG"/>
          <p:cNvPicPr/>
          <p:nvPr/>
        </p:nvPicPr>
        <p:blipFill>
          <a:blip r:embed="rId1"/>
          <a:stretch/>
        </p:blipFill>
        <p:spPr>
          <a:xfrm>
            <a:off x="-2376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3280" y="-360"/>
            <a:ext cx="59403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bat"/>
              </a:rPr>
              <a:t>Искусственный горный хребет с 5 вершинами символизирует             5 элементов Вселенной – металл, дерево, вода, огонь, зем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Arbat"/>
              </a:rPr>
              <a:t>В искусственных горах расположена девятиэтажная башня, внутри которой </a:t>
            </a:r>
            <a:r>
              <a:rPr b="1" lang="ru-RU" sz="2600" spc="-1" strike="noStrike">
                <a:solidFill>
                  <a:srgbClr val="ffff00"/>
                </a:solidFill>
                <a:latin typeface="Arbat"/>
              </a:rPr>
              <a:t>находятся</a:t>
            </a:r>
            <a:r>
              <a:rPr b="0" lang="ru-RU" sz="2600" spc="-1" strike="noStrike">
                <a:solidFill>
                  <a:srgbClr val="ffff00"/>
                </a:solidFill>
                <a:latin typeface="Arbat"/>
              </a:rPr>
              <a:t> исторические экспонаты. Любой желающий может подняться наверх и посмотреть на парк с высоты птичьего полё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3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Users\User\Pictures\dainam_360c2d9be52b98a84eb2ab94cc55941d_7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95480"/>
            <a:ext cx="87854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5444640"/>
            <a:ext cx="8785440" cy="1079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вапарк Дай Нама рассчитан на 30 тысяч человек!  Он состоит из 2-х искусственных заливов – с солёной и пресной вод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User\ПРОЕКТ ДАЙ НАМ\фотки уменьшенные\DSC_1831.JPG"/>
          <p:cNvPicPr/>
          <p:nvPr/>
        </p:nvPicPr>
        <p:blipFill>
          <a:blip r:embed="rId1"/>
          <a:stretch/>
        </p:blipFill>
        <p:spPr>
          <a:xfrm>
            <a:off x="3117960" y="2817720"/>
            <a:ext cx="6026040" cy="404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User\ПРОЕКТ ДАЙ НАМ\фотки уменьшенные\DSC_1812.JPG"/>
          <p:cNvPicPr/>
          <p:nvPr/>
        </p:nvPicPr>
        <p:blipFill>
          <a:blip r:embed="rId2"/>
          <a:stretch/>
        </p:blipFill>
        <p:spPr>
          <a:xfrm>
            <a:off x="0" y="0"/>
            <a:ext cx="5170320" cy="3467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19280" y="0"/>
            <a:ext cx="392436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bat"/>
                <a:ea typeface="Times New Roman"/>
              </a:rPr>
              <a:t>Парк развлечений построен по международным стандартам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bat"/>
                <a:ea typeface="Times New Roman"/>
              </a:rPr>
              <a:t>Здесь очень весело!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bat"/>
                <a:ea typeface="Times New Roman"/>
              </a:rPr>
              <a:t>Мы проверя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1" descr="dainam_dea553c589835b504e8fd8f1530b3f71_730.jpg"/>
          <p:cNvPicPr/>
          <p:nvPr/>
        </p:nvPicPr>
        <p:blipFill>
          <a:blip r:embed="rId3"/>
          <a:stretch/>
        </p:blipFill>
        <p:spPr>
          <a:xfrm>
            <a:off x="0" y="3357720"/>
            <a:ext cx="4284720" cy="3500280"/>
          </a:xfrm>
          <a:prstGeom prst="rect">
            <a:avLst/>
          </a:prstGeom>
          <a:ln w="0">
            <a:noFill/>
          </a:ln>
        </p:spPr>
      </p:pic>
    </p:spTree>
  </p:cSld>
  <p:transition advTm="12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:\Users\User\ПРОЕКТ ДАЙ НАМ\фотки уменьшенные\DSC_0502.JPG"/>
          <p:cNvPicPr/>
          <p:nvPr/>
        </p:nvPicPr>
        <p:blipFill>
          <a:blip r:embed="rId1"/>
          <a:stretch/>
        </p:blipFill>
        <p:spPr>
          <a:xfrm>
            <a:off x="0" y="0"/>
            <a:ext cx="6681960" cy="4724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bat"/>
                <a:ea typeface="Times New Roman"/>
              </a:rPr>
              <a:t>ЗООПАР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16360" y="-360"/>
            <a:ext cx="28083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bat"/>
              </a:rPr>
              <a:t>Здесь мы увидели много красивых редких животных и их детёныш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0" y="472428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bat"/>
              </a:rPr>
              <a:t>Парк является домом для носорогов, белых львов,  белых тигров, слонов, медведей, страусов, белых павлинов, крокодилов, жирафов, бегемотов и других живо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07:06:16Z</dcterms:created>
  <dc:creator>User</dc:creator>
  <dc:description/>
  <dc:language>en-US</dc:language>
  <cp:lastModifiedBy>User</cp:lastModifiedBy>
  <dcterms:modified xsi:type="dcterms:W3CDTF">2014-02-23T18:27:33Z</dcterms:modified>
  <cp:revision>140</cp:revision>
  <dc:subject/>
  <dc:title>ПАРК «ДАЙ НАМ»</dc:title>
</cp:coreProperties>
</file>