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E2F-CA11-44AA-91E6-E7E99A76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5E4-DC88-49BD-9D72-BFB0097A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DF3-3E0B-424E-B9CA-B9689F5D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31D-F7A7-4AC9-95C7-BF1650A7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0E7-B951-4DC6-92E6-CE0EA227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AEE-0D7F-4FA4-8702-1CB59135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2DF-9C31-4737-9E28-EC6EAC2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DE3-D7EA-4AE5-9739-6E7D5FEF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C4F-F655-4E3D-AD30-B92F1BD7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D48-3DE9-4342-921F-1E4A52D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519-08FC-41A7-8A92-A9A8A44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0AB-C58E-4E5C-A559-1ABBBFC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A01F-0315-482C-ACBA-F9234C65A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413000"/>
            <a:ext cx="5759280" cy="18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сто о СЛОЖНОМ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4320" y="0"/>
            <a:ext cx="46170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Началь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Генерального консульств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в г.Хошим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5241960"/>
            <a:ext cx="47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д проектом работ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лад Гиневский 3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уководитель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иневская Анастасия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51280" y="2781360"/>
            <a:ext cx="4181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жная физика в простых вещах.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41403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0360" y="11955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133800" y="1266840"/>
            <a:ext cx="1944720" cy="14587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96720" y="1266840"/>
            <a:ext cx="1965240" cy="2165040"/>
            <a:chOff x="396720" y="1266840"/>
            <a:chExt cx="1965240" cy="216504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396720" y="1266840"/>
              <a:ext cx="194472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44320" y="2851200"/>
              <a:ext cx="181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греть бутылк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горячей вод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79960" y="277956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еть шарик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лышко буты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6680" y="27082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хладить бутыл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84720" y="3500280"/>
            <a:ext cx="1917720" cy="2165040"/>
            <a:chOff x="6084720" y="3500280"/>
            <a:chExt cx="1917720" cy="216504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6084720" y="3500280"/>
              <a:ext cx="1917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231960" y="5084640"/>
              <a:ext cx="175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Шарик затянул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нутрь бутыл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340000" y="206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206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27480" y="503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203640" y="3571920"/>
            <a:ext cx="1942920" cy="145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9600" y="515772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хлажден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тылку одева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вый шар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39640" y="3645000"/>
            <a:ext cx="1943280" cy="145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00" y="5229360"/>
            <a:ext cx="282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ускаем под горячую в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арик наду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7080" y="2995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148000" y="429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484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42920" y="0"/>
            <a:ext cx="66391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Горячий и холодный возду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9400" y="5950080"/>
            <a:ext cx="83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гревании воздух расширяется, а при охлаждении сжим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50480"/>
            <a:ext cx="79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бонитовая палочка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х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усочки бум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еклянная палочка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аз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довательность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бонитовой палочкой прикоснемся к маленьк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усочкам бумаги, лежащим на столе, и подним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лочку - бумажные кусочки останутся лежать на ст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трем эбонитовую палочку о мех  и поднесем к тем же кусочкам бумаги – они подскочат и прилипнут к палочке, а спустя некоторое время, отскочат от н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тем повторяем опыт, приблизив к бумажкам стеклянную палочку, потерев ее газетой. Бумажки интенсивно притягиваются к палоч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ъяснени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В результате соприкосновения и трения о мех или шелк эбонитовая палочка приобрела новое качество, она стала способной притягивать к себе легки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блюдаемое явление и ес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лектризация те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 электризации тела приобретают электрический за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549360"/>
            <a:ext cx="3657600" cy="2076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627280" y="0"/>
            <a:ext cx="4200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лектризация тел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270920" y="5448240"/>
            <a:ext cx="18730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16360" y="40464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р вокруг нас удивительно многообраз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му человеку интересно узн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устроено все то, что его окруж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205000"/>
            <a:ext cx="73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явлением микроскопа в наш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е мы обрели свою минилабора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89000"/>
            <a:ext cx="217152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Микромир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06368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4356000" y="4149720"/>
            <a:ext cx="4032000" cy="1008720"/>
            <a:chOff x="4356000" y="4149720"/>
            <a:chExt cx="4032000" cy="1008720"/>
          </a:xfrm>
        </p:grpSpPr>
        <p:sp>
          <p:nvSpPr>
            <p:cNvPr id="105" name=""/>
            <p:cNvSpPr/>
            <p:nvPr/>
          </p:nvSpPr>
          <p:spPr>
            <a:xfrm>
              <a:off x="4860720" y="4149720"/>
              <a:ext cx="3527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екло с чешуёй рыбы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меиной кожей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ом птиц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356000" y="4581360"/>
              <a:ext cx="57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356000" y="5445000"/>
            <a:ext cx="3382200" cy="703800"/>
            <a:chOff x="4356000" y="5445000"/>
            <a:chExt cx="3382200" cy="703800"/>
          </a:xfrm>
        </p:grpSpPr>
        <p:sp>
          <p:nvSpPr>
            <p:cNvPr id="108" name=""/>
            <p:cNvSpPr/>
            <p:nvPr/>
          </p:nvSpPr>
          <p:spPr>
            <a:xfrm>
              <a:off x="4858560" y="5445000"/>
              <a:ext cx="287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туральные волок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личных  тка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356000" y="5589360"/>
              <a:ext cx="57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1513080" cy="201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7080" y="907920"/>
            <a:ext cx="1512720" cy="201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2997360"/>
            <a:ext cx="3164040" cy="237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500720" y="2997360"/>
            <a:ext cx="3163680" cy="2373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724360" y="907920"/>
            <a:ext cx="1513080" cy="2017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2560" y="0"/>
            <a:ext cx="83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наш опыт, эксперимент мы показываем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угу в школе на «Научных переменках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 rot="1339800">
            <a:off x="6948000" y="4076640"/>
            <a:ext cx="1746360" cy="232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546880"/>
            <a:ext cx="75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ет множество вещей в м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торые нам сложно пон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стоит признать, что есть вполне простые идеи и понятия, доступные нашему поним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234936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00720" y="765000"/>
            <a:ext cx="3744720" cy="1257480"/>
          </a:xfrm>
          <a:prstGeom prst="cloudCallout">
            <a:avLst>
              <a:gd name="adj1" fmla="val -98791"/>
              <a:gd name="adj2" fmla="val -67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всего интересн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500280"/>
            <a:ext cx="3745080" cy="1257480"/>
          </a:xfrm>
          <a:prstGeom prst="cloudCallout">
            <a:avLst>
              <a:gd name="adj1" fmla="val 93745"/>
              <a:gd name="adj2" fmla="val 71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524720" y="2133720"/>
            <a:ext cx="13143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92360" y="1844640"/>
            <a:ext cx="6562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щивание крист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мера-обск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ячий и холодный 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изац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кро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765000"/>
            <a:ext cx="4827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учные перемен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371628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ма возможно вырастить кристалл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5480" y="76500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ль и немного терпе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3213000"/>
            <a:ext cx="2270160" cy="30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940360" y="836640"/>
            <a:ext cx="304812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7560" y="1268280"/>
            <a:ext cx="697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воряем соль в горяче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дём несколько дней и на дне сосуда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дет собрать «затравку» для нашего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781360"/>
            <a:ext cx="60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й красивый маленький кристалл подвязываем на нитке и снова опускаем в солёный раст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ло 4 нед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960"/>
                            </p:stCondLst>
                            <p:childTnLst>
                              <p:par>
                                <p:cTn id="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96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96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23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81440" y="429264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Камера-обск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8974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камеры-обскура переводится с латыни как тёмная комната. Первые камеры-обскура представляли из себя именно комнаты — абсолютно затемнённые помещения, внутрь которого заходил учёный или художник, чтобы наблюдать проекцию, созданную пучком лучей, проходящими через небольшое отверст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6280" y="204840"/>
            <a:ext cx="74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Monotype Corsiva"/>
              </a:rPr>
              <a:t>Простейшее оптическое устр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5688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76500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ёные наблюдали проекцию небесных тел, солнца, луну было сложнее увидеть. Забравшись внутрь тёмной комнаты, можно видеть не само солнце, а его проекцию на противоположной стене. Это гораздо более щадящее для зрения и позволило в своё время найти на солнце пятна, что очень сильно удивило и озаботило тогдашних учёных, которые считали, что солнце — это идеальное божественное творение, и у него не может быть никаких изъя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3284640"/>
            <a:ext cx="6121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318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5040000" cy="377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71200" y="907920"/>
            <a:ext cx="46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чертежам и рисун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еня получилось простейш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тическое устройст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0720" y="4724280"/>
            <a:ext cx="35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ё вверх тормаш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00360" y="3393000"/>
            <a:ext cx="61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душные шарики – бесценный подручный матери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наблюдения физических явлени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ановки различных физических экспери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56000" y="115920"/>
            <a:ext cx="606744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Физика н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оздушных шариках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08:53:52Z</dcterms:created>
  <dc:creator>User</dc:creator>
  <dc:description/>
  <dc:language>en-US</dc:language>
  <cp:lastModifiedBy>User</cp:lastModifiedBy>
  <dcterms:modified xsi:type="dcterms:W3CDTF">2015-03-12T14:45:21Z</dcterms:modified>
  <cp:revision>49</cp:revision>
  <dc:subject/>
  <dc:title>Слайд 1</dc:title>
</cp:coreProperties>
</file>